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84CA-C91E-4F8D-8E4C-39CC251D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C9D8-6069-4DA9-B2E3-67AF77EF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C96E-3900-4DAD-8E21-87F7F39C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3A75-BEFF-4A29-94EC-62E1E588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3C45-A2BD-410D-BA33-ED0EED18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3850-A31D-42EC-B3CA-52F67EBF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D782-F52A-4071-AFD6-2656CF06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EB63-77B1-45AC-826B-B9A16304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CDEB-FB0D-4AC1-BC87-9BFD311D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2B7E-198A-4200-B891-D9FBD6D7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D1B2-B026-45F4-B830-7B708B66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FDA1-338B-4B7F-B0F1-FED617DD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9251-1E3A-41EC-BA70-57EADF34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0A66-4E4B-489A-99AD-8B977A9F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EAB3-2468-4714-AD21-23FF6C7E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B1D8-8903-405C-873E-41745914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A958-15C1-4165-80CB-93A1236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E05F6-1E77-442F-B5B8-7C41B60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A51A6-C693-481A-8132-A0D86A13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8E19-5AF6-453B-B390-B165C6F2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3D92A-E504-4C01-B1A6-DDFDFCB8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212-67E2-493D-92D5-468D452F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8E9-8848-49FB-91A0-9D6D1CAD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FBB-8F91-4944-8992-4931CF70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1AA-1F72-4D5D-825C-CF34FF7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8ED-0FDA-42C2-9D3F-496E8235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252-D345-4A91-8D19-5FF82A1D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069-9244-4C63-BB06-E1B0174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2CC-5E60-4828-ACB5-A8C340D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C8B-CAB5-4893-AFFE-8C387D93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970-09A8-4C7D-A745-F67DD763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747-81D7-4B26-AE14-C0D06FDF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EC2-7265-4D7A-874C-581ED96D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571B-85A4-4C73-A8E1-69FE75BB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F701-BB8F-428F-A00A-DB493E71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52E-975C-445D-AD5E-D3295297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BE92-7E51-48FC-9324-9EB9782F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FCF2-292D-4CB0-97B7-A1D67F6A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AE14-3BED-4DFB-9300-EFB0515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50D1-4D2D-4323-8C5A-013F8FD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EFBB-4C87-4A53-A791-015D618C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EB7E-BED8-44EC-A243-EFA14646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C51D-0402-4BA3-B415-7E43BAF0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4291-93DD-4EFB-9AC7-55D5E715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3244-A80E-480A-9F60-D730B07E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78A1-9062-4F46-BB1D-6F51D90E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C7FE-8F84-41A8-B8B0-E5F95BE8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8DEE-8F2D-438B-85B6-CA6FB071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50E-DFDF-414F-9BA0-5D5FB263E8F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FAE6-486F-469D-B75D-4ADEA9AA452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95CF-F1D3-4FC6-90CC-66B8C8B09A8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B810-7EBD-4651-81E2-D31C385BE51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38160" y="1492200"/>
            <a:ext cx="91058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, planting density and N fertilizer rate effect on soil quality, weed dynamics and maize yield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519200" y="5516640"/>
            <a:ext cx="587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6DD3-710C-4D54-897B-95E1AE7451C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53C-B538-4F6E-BE6C-F9A907FF8A5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6875640" y="-100080"/>
            <a:ext cx="226836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840" y="4276800"/>
            <a:ext cx="227808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8710560" y="0"/>
            <a:ext cx="43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430-3510-4BBE-BEBF-F25B96EC6A4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0" y="6381720"/>
            <a:ext cx="8381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3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8639280" y="6361200"/>
            <a:ext cx="5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9BBD-F3CC-49EE-B9AD-150B14DA9FE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-9360" y="-95400"/>
            <a:ext cx="9210600" cy="654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0" y="6308640"/>
            <a:ext cx="914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4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16960" y="637236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291E-3188-4996-8800-EAC462F4B1D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84C2-7A62-4CB6-B271-F5FD92FDD94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059B-9CB2-4CE6-BD09-261D64FBA68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2C86-BE5E-4335-965F-9B10DE36A97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E780-2798-4C15-A21E-F6158D35EA1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5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3484-A56E-4839-8C06-41BDD4822DD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6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8CCE-D724-4A4D-84F4-1F851068760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and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5434-6A19-413F-ACC1-8CE9976B4EF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D6F-3993-4F24-AC26-9A8F91B28E2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D9E9-745D-4395-AA11-7D1A17E2F6B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D55A-F3D8-46CF-9F05-C02C3A2146A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itle 1"/>
          <p:cNvSpPr/>
          <p:nvPr/>
        </p:nvSpPr>
        <p:spPr>
          <a:xfrm>
            <a:off x="108000" y="6338880"/>
            <a:ext cx="90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g. 4. Farmer preference for corralling technology  at Navr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02560" y="0"/>
            <a:ext cx="503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5EDF-753D-4F5E-B673-2E9A93B808D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Chart 4"/>
          <p:cNvGraphicFramePr/>
          <p:nvPr/>
        </p:nvGraphicFramePr>
        <p:xfrm>
          <a:off x="-50760" y="-34920"/>
          <a:ext cx="919476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34920"/>
                    <a:ext cx="91947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itle 1"/>
          <p:cNvSpPr/>
          <p:nvPr/>
        </p:nvSpPr>
        <p:spPr>
          <a:xfrm>
            <a:off x="0" y="6338880"/>
            <a:ext cx="9142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5. Farmer preference for maize density at Navr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72400" y="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537B-043F-418D-91F6-72C4C4EC44B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Chart 4"/>
          <p:cNvGraphicFramePr/>
          <p:nvPr/>
        </p:nvGraphicFramePr>
        <p:xfrm>
          <a:off x="-50760" y="-22320"/>
          <a:ext cx="9193320" cy="63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22320"/>
                    <a:ext cx="919332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itle 1"/>
          <p:cNvSpPr/>
          <p:nvPr/>
        </p:nvSpPr>
        <p:spPr>
          <a:xfrm>
            <a:off x="28440" y="6288120"/>
            <a:ext cx="909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Fig. 6. Farmer preference for N fertilizer rate at Navron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29560" y="0"/>
            <a:ext cx="51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639F-5D66-48F9-A27A-53ACD159882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Chart 4"/>
          <p:cNvGraphicFramePr/>
          <p:nvPr/>
        </p:nvGraphicFramePr>
        <p:xfrm>
          <a:off x="-50760" y="-50760"/>
          <a:ext cx="9194760" cy="63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2320" y="1822320"/>
            <a:ext cx="91440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farmers preferred maize performance under SDSG at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PD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F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1FD-DCDC-4E67-A124-95D0BE0BAC2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3E05-8E4E-4432-B1E9-7D566A2ACA7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itle 1"/>
          <p:cNvSpPr/>
          <p:nvPr/>
        </p:nvSpPr>
        <p:spPr>
          <a:xfrm>
            <a:off x="0" y="1197000"/>
            <a:ext cx="69483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Lessons and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108000" y="20606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s complained about theft of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uality of manure from livestock was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upplementary feeding to improve manu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the quality manure also affects fodder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9C14-6FC5-46DB-B1E1-B2503BFBADC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2FD-9ED9-4FE6-8FC4-2FF90AFDFC8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E90E-71F3-4B8B-8F62-ADB7D749335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A408-8DA3-40CF-83D8-F349593299C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6080" y="620640"/>
            <a:ext cx="91314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 preference for SDSG, MPD and NFR technologies on ma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3107-0637-4FF8-813E-5F5ADF0A4184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259B-5210-464B-9D7A-2EDE174E610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1A68-A322-4293-B33D-561AF939B0B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B742-3A35-45D2-A66D-4316D2752D4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</cp:lastModifiedBy>
  <cp:lastPrinted>2015-09-01T11:16:39Z</cp:lastPrinted>
  <dcterms:modified xsi:type="dcterms:W3CDTF">2016-12-22T10:52:12Z</dcterms:modified>
  <cp:revision>973</cp:revision>
  <dc:subject/>
  <dc:title>Diapositiva 1</dc:title>
</cp:coreProperties>
</file>